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Categories.wav" ContentType="audio/x-wav"/>
  <Override PartName="/ppt/media/theme2.wav" ContentType="audio/x-wav"/>
  <Override PartName="/ppt/media/Daily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1F1A-5C3A-407F-8C26-036CDD9BC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72BC-AC90-4B42-A0EC-744911B64C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5CD5-0542-409B-BDCE-F996DF1ED4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D869-7CFB-42AD-8556-2FDA4352E6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BE46-C263-4AB8-AB5B-76E719536C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ECDB-F35A-4A5E-86E3-894F5464DA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B969-8470-4DE9-8F86-652BB11EF4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4017-816B-48F8-9DE0-F4638F2431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8FE5-6473-4C9C-A76F-0ECEB81D08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C1E1-4C70-463A-8C3A-E76E7AB616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853C-9092-4FA8-AE5F-5DA1C0A24B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50AC-10BF-427B-AA69-79D5DA8745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97D7-343D-4CE7-ABD7-F1BAD0E7E4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D5F3-F1A0-4344-9A3D-7FD0DF2B87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1564-B3E9-4BC7-AD25-F30E578136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4EC8-A3E4-4AE0-8D61-6A680E2D4E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75E6-BA88-4CFB-B31C-B0CDCE9A13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5992-D309-45B5-A4DC-F291D47D76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972F-1D5B-4ECF-B2FE-57587F1D88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4949-2F46-47AF-BDF1-02AEFB68EC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739A-F41C-497D-AF4D-9B42D12710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3994-5DE6-4094-A935-1C106DEDB3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B41E-A95F-45EC-A1D0-092AF858BD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B2B1-9CFD-4AD2-8E2B-3ED66A3489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4FF8-A308-4C9A-9818-A895D91042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FD35-6175-4BB0-9D32-664B9A9A86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13E4-E2BD-445B-880D-1491F80DE0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3BC2-0D60-4AED-A932-86317BE5EE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41B6-8A98-4707-A2CA-9DAA23FBB5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D70D-FC7A-4614-93F6-4C8EF56267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EB56-AF5A-4A78-8284-7460CDF3A2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3352-6B88-4D2A-9567-DA41280481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8EFC-5316-4498-AC70-F28150454D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3FF2-E683-40B7-9750-FD82856ED7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DBC4-CC1C-45CA-9544-D4818B9DC1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E3C8-DB81-4AB1-B36C-508BAFCF01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D272-AF2D-4204-A540-91BA13CBFF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C61A-2CFD-4933-BD66-C8E2DBF5ED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C700-0A70-4C7B-BFFB-3C8CB00377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DF11-C7C8-4236-9EFA-2489A06A29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4B48-2A82-42CC-B3AE-879B0E1E7D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C6CF-9702-4DE3-BA14-CF444E3D23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C4C8-B721-44E2-BB9D-34D62089C6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9848-2570-4533-A554-18EF5F13BE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C592-DF2E-43CD-A715-F057CD5452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FF0E-5C66-471D-8708-CA910DE64B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984D-7A45-4C1E-942E-30C703A071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522D-82A5-4EE8-B890-0C36E4004F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A8FA-E3F9-4884-AFE7-BE0146E93B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546B-9832-4860-A901-4F9A93E15E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7A7F-AE3F-4046-996C-FF65DFE3E3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3367-4C4D-4666-9F51-5B90824BBA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A9B9-3C45-42B4-B105-17FC8B51E2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253F-DC8E-4AD6-83EC-8312664E15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D1C1-65DA-44E0-8CAA-F32477DB2B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FBCF-A120-4B6E-A421-92142A351D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4C32-8283-462E-BE12-B895AD6408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3685-83F5-40CE-9D04-B206F8E671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4411-38EC-48D3-8EE0-3AB82773C1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A15F-FE7F-491D-8F7A-CC0D276D18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4CD9-9A97-4FC6-84D8-B6B277D1C4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F2A0-D2D5-43C4-A74C-4C66B56468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8A9A-C442-48A0-AB6E-2FEF772AB3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A97C-1C0B-400B-96DD-65E9954E49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4A00-75C9-4AEE-A6C7-0798F048BE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F943-FCFA-452A-A541-F76D9B563F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973B5-7990-4117-96F3-E3D09E6D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53C59-65DC-46A8-8F61-3A5B4F7C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664DD-26EE-450C-9E4E-0F84D47A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7D729-67C2-4BA6-AEAE-CD028B1C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58572-76E2-40BF-9B36-FD74B884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40AE6-7044-4CB9-AB71-A840A8EB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BF3E9-B2A0-4999-B5AE-C07AAE70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FC2D9-3460-46F4-93C0-6AA4C375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3B559-163B-4CF3-96AC-57B8D76B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1B404-B30D-49B5-83C7-A04AA7ED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6D322-1D07-4A70-BDED-F992DD52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B6539-47A8-46AA-9173-A18F3F13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01000" y="655272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35F9-3877-40EB-B47D-F9A92BB0AF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theme2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4.xml"/><Relationship Id="rId3" Type="http://schemas.openxmlformats.org/officeDocument/2006/relationships/slide" Target="slide24.xml"/><Relationship Id="rId4" Type="http://schemas.openxmlformats.org/officeDocument/2006/relationships/slide" Target="slide34.xml"/><Relationship Id="rId5" Type="http://schemas.openxmlformats.org/officeDocument/2006/relationships/slide" Target="slide44.xml"/><Relationship Id="rId6" Type="http://schemas.openxmlformats.org/officeDocument/2006/relationships/slide" Target="slide54.xml"/><Relationship Id="rId7" Type="http://schemas.openxmlformats.org/officeDocument/2006/relationships/slide" Target="slide6.xml"/><Relationship Id="rId8" Type="http://schemas.openxmlformats.org/officeDocument/2006/relationships/slide" Target="slide16.xml"/><Relationship Id="rId9" Type="http://schemas.openxmlformats.org/officeDocument/2006/relationships/slide" Target="slide26.xml"/><Relationship Id="rId10" Type="http://schemas.openxmlformats.org/officeDocument/2006/relationships/slide" Target="slide36.xml"/><Relationship Id="rId11" Type="http://schemas.openxmlformats.org/officeDocument/2006/relationships/slide" Target="slide46.xml"/><Relationship Id="rId12" Type="http://schemas.openxmlformats.org/officeDocument/2006/relationships/slide" Target="slide55.xml"/><Relationship Id="rId13" Type="http://schemas.openxmlformats.org/officeDocument/2006/relationships/slide" Target="slide8.xml"/><Relationship Id="rId14" Type="http://schemas.openxmlformats.org/officeDocument/2006/relationships/slide" Target="slide18.xml"/><Relationship Id="rId15" Type="http://schemas.openxmlformats.org/officeDocument/2006/relationships/slide" Target="slide28.xml"/><Relationship Id="rId16" Type="http://schemas.openxmlformats.org/officeDocument/2006/relationships/slide" Target="slide38.xml"/><Relationship Id="rId17" Type="http://schemas.openxmlformats.org/officeDocument/2006/relationships/slide" Target="slide48.xml"/><Relationship Id="rId18" Type="http://schemas.openxmlformats.org/officeDocument/2006/relationships/slide" Target="slide56.xml"/><Relationship Id="rId19" Type="http://schemas.openxmlformats.org/officeDocument/2006/relationships/slide" Target="slide10.xml"/><Relationship Id="rId20" Type="http://schemas.openxmlformats.org/officeDocument/2006/relationships/slide" Target="slide20.xml"/><Relationship Id="rId21" Type="http://schemas.openxmlformats.org/officeDocument/2006/relationships/slide" Target="slide30.xml"/><Relationship Id="rId22" Type="http://schemas.openxmlformats.org/officeDocument/2006/relationships/slide" Target="slide40.xml"/><Relationship Id="rId23" Type="http://schemas.openxmlformats.org/officeDocument/2006/relationships/slide" Target="slide50.xml"/><Relationship Id="rId24" Type="http://schemas.openxmlformats.org/officeDocument/2006/relationships/slide" Target="slide57.xml"/><Relationship Id="rId25" Type="http://schemas.openxmlformats.org/officeDocument/2006/relationships/slide" Target="slide12.xml"/><Relationship Id="rId26" Type="http://schemas.openxmlformats.org/officeDocument/2006/relationships/slide" Target="slide22.xml"/><Relationship Id="rId27" Type="http://schemas.openxmlformats.org/officeDocument/2006/relationships/slide" Target="slide32.xml"/><Relationship Id="rId28" Type="http://schemas.openxmlformats.org/officeDocument/2006/relationships/slide" Target="slide42.xml"/><Relationship Id="rId29" Type="http://schemas.openxmlformats.org/officeDocument/2006/relationships/slide" Target="slide52.xml"/><Relationship Id="rId30" Type="http://schemas.openxmlformats.org/officeDocument/2006/relationships/slide" Target="slide58.xml"/><Relationship Id="rId31" Type="http://schemas.openxmlformats.org/officeDocument/2006/relationships/slide" Target="slide59.xml"/><Relationship Id="rId32" Type="http://schemas.openxmlformats.org/officeDocument/2006/relationships/audio" Target="../media/Categories.wav"/><Relationship Id="rId33" Type="http://schemas.openxmlformats.org/officeDocument/2006/relationships/audio" Target="../media/Categories.wav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ail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Dail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752480" y="2666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ce to Beg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7e7ff"/>
                </a:solidFill>
                <a:latin typeface="Arial"/>
              </a:rPr>
              <a:t>Charlotte’s Web Jeopardy!</a:t>
            </a:r>
            <a:endParaRPr b="0" lang="en-US" sz="8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9" name="Picture 5" descr="j0344853"/>
          <p:cNvPicPr/>
          <p:nvPr/>
        </p:nvPicPr>
        <p:blipFill>
          <a:blip r:embed="rId1"/>
          <a:stretch/>
        </p:blipFill>
        <p:spPr>
          <a:xfrm>
            <a:off x="762120" y="4724280"/>
            <a:ext cx="1236600" cy="1650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MCj03700920000[1]"/>
          <p:cNvPicPr/>
          <p:nvPr/>
        </p:nvPicPr>
        <p:blipFill>
          <a:blip r:embed="rId2"/>
          <a:stretch/>
        </p:blipFill>
        <p:spPr>
          <a:xfrm>
            <a:off x="6781680" y="5334120"/>
            <a:ext cx="1957680" cy="1038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MCj04260220000[1]"/>
          <p:cNvPicPr/>
          <p:nvPr/>
        </p:nvPicPr>
        <p:blipFill>
          <a:blip r:embed="rId3"/>
          <a:stretch/>
        </p:blipFill>
        <p:spPr>
          <a:xfrm>
            <a:off x="3581280" y="4724280"/>
            <a:ext cx="184176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hem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is character ran errands for Charlotte to help her find words to write in her web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oper Black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o is Templeton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AutoShape 4">
            <a:hlinkClick r:id="rId1" action="ppaction://hlinksldjump"/>
          </p:cNvPr>
          <p:cNvSpPr/>
          <p:nvPr/>
        </p:nvSpPr>
        <p:spPr>
          <a:xfrm>
            <a:off x="6858000" y="5715000"/>
            <a:ext cx="2133720" cy="838080"/>
          </a:xfrm>
          <a:custGeom>
            <a:avLst/>
            <a:gdLst>
              <a:gd name="textAreaLeft" fmla="*/ 54000 w 2133720"/>
              <a:gd name="textAreaRight" fmla="*/ 2079720 w 2133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4978" h="21600">
                <a:moveTo>
                  <a:pt x="0" y="0"/>
                </a:moveTo>
                <a:lnTo>
                  <a:pt x="54978" y="0"/>
                </a:lnTo>
                <a:lnTo>
                  <a:pt x="54978" y="21600"/>
                </a:lnTo>
                <a:lnTo>
                  <a:pt x="0" y="21600"/>
                </a:lnTo>
                <a:close/>
              </a:path>
              <a:path fill="lightenLess" w="54978" h="21600">
                <a:moveTo>
                  <a:pt x="0" y="0"/>
                </a:moveTo>
                <a:lnTo>
                  <a:pt x="54978" y="0"/>
                </a:lnTo>
                <a:lnTo>
                  <a:pt x="53578" y="1400"/>
                </a:lnTo>
                <a:lnTo>
                  <a:pt x="1400" y="1400"/>
                </a:lnTo>
                <a:close/>
              </a:path>
              <a:path fill="darken" w="54978" h="21600">
                <a:moveTo>
                  <a:pt x="54978" y="0"/>
                </a:moveTo>
                <a:lnTo>
                  <a:pt x="54978" y="21600"/>
                </a:lnTo>
                <a:lnTo>
                  <a:pt x="53578" y="20200"/>
                </a:lnTo>
                <a:lnTo>
                  <a:pt x="53578" y="1400"/>
                </a:lnTo>
                <a:close/>
              </a:path>
              <a:path fill="darkenLess" w="54978" h="21600">
                <a:moveTo>
                  <a:pt x="54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78" y="20200"/>
                </a:lnTo>
                <a:close/>
              </a:path>
              <a:path fill="lighten" w="54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78" h="21600">
                <a:moveTo>
                  <a:pt x="20483" y="10800"/>
                </a:moveTo>
                <a:lnTo>
                  <a:pt x="34496" y="3794"/>
                </a:lnTo>
                <a:lnTo>
                  <a:pt x="34496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se three characters stay with Wilbur in the barn at the end of the book.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oper Black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o are Joy, Aranea, and Nellie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AutoShape 4">
            <a:hlinkClick r:id="rId1" action="ppaction://hlinksldjump"/>
          </p:cNvPr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r. Arable wanted to kill Wilbur because he was bigger than all of the other pigs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oper Black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l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AutoShape 4">
            <a:hlinkClick r:id="rId1" action="ppaction://hlinksldjump"/>
          </p:cNvPr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first words Charlotte spun in her web were “some pig”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oper Black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u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ilbur won the blue ribbon and $25.00 at the fai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l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1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066680" y="304920"/>
            <a:ext cx="670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enguiat Frisky"/>
              </a:rPr>
              <a:t>JEOPARDY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8088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78272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18456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58640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98788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39152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8088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178272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318456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58640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598788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739152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38088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178272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318456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458640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598788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739152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38088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178272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318456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458640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598788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739152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38088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5"/>
          <p:cNvSpPr/>
          <p:nvPr/>
        </p:nvSpPr>
        <p:spPr>
          <a:xfrm>
            <a:off x="178272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36"/>
          <p:cNvSpPr/>
          <p:nvPr/>
        </p:nvSpPr>
        <p:spPr>
          <a:xfrm>
            <a:off x="318456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37"/>
          <p:cNvSpPr/>
          <p:nvPr/>
        </p:nvSpPr>
        <p:spPr>
          <a:xfrm>
            <a:off x="458640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598788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39"/>
          <p:cNvSpPr/>
          <p:nvPr/>
        </p:nvSpPr>
        <p:spPr>
          <a:xfrm>
            <a:off x="739152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46"/>
          <p:cNvSpPr/>
          <p:nvPr/>
        </p:nvSpPr>
        <p:spPr>
          <a:xfrm>
            <a:off x="38088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haracter Stud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47"/>
          <p:cNvSpPr/>
          <p:nvPr/>
        </p:nvSpPr>
        <p:spPr>
          <a:xfrm>
            <a:off x="178272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rue or Fal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8"/>
          <p:cNvSpPr/>
          <p:nvPr/>
        </p:nvSpPr>
        <p:spPr>
          <a:xfrm>
            <a:off x="318456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Quotable Quo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458640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ultiple Choi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5987880" y="1447920"/>
            <a:ext cx="132588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quenc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7391520" y="1447920"/>
            <a:ext cx="137160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65">
            <a:hlinkClick r:id="rId31" action="ppaction://hlinksldjump"/>
          </p:cNvPr>
          <p:cNvSpPr/>
          <p:nvPr/>
        </p:nvSpPr>
        <p:spPr>
          <a:xfrm>
            <a:off x="7162920" y="6094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n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tegori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tegori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pig who won first prize at the fair was named Uncle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u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rlotte had 514 eggs in her egg sack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character said, “This is the most terrible case of injustice I have ever heard of.”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en asked when the eggs would hatch, this character said, “Appr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ximately-oximately thirty days, all told.”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00400" y="4267080"/>
            <a:ext cx="2362320" cy="60984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3635" h="21600">
                <a:moveTo>
                  <a:pt x="0" y="0"/>
                </a:moveTo>
                <a:lnTo>
                  <a:pt x="83635" y="0"/>
                </a:lnTo>
                <a:lnTo>
                  <a:pt x="83635" y="21600"/>
                </a:lnTo>
                <a:lnTo>
                  <a:pt x="0" y="21600"/>
                </a:lnTo>
                <a:close/>
              </a:path>
              <a:path fill="lightenLess" w="83635" h="21600">
                <a:moveTo>
                  <a:pt x="0" y="0"/>
                </a:moveTo>
                <a:lnTo>
                  <a:pt x="83635" y="0"/>
                </a:lnTo>
                <a:lnTo>
                  <a:pt x="82235" y="1400"/>
                </a:lnTo>
                <a:lnTo>
                  <a:pt x="1400" y="1400"/>
                </a:lnTo>
                <a:close/>
              </a:path>
              <a:path fill="darken" w="83635" h="21600">
                <a:moveTo>
                  <a:pt x="83635" y="0"/>
                </a:moveTo>
                <a:lnTo>
                  <a:pt x="83635" y="21600"/>
                </a:lnTo>
                <a:lnTo>
                  <a:pt x="82235" y="20200"/>
                </a:lnTo>
                <a:lnTo>
                  <a:pt x="82235" y="1400"/>
                </a:lnTo>
                <a:close/>
              </a:path>
              <a:path fill="darkenLess" w="83635" h="21600">
                <a:moveTo>
                  <a:pt x="8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35" y="20200"/>
                </a:lnTo>
                <a:close/>
              </a:path>
              <a:path fill="lighten" w="8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35" h="21600">
                <a:moveTo>
                  <a:pt x="4181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35" h="21600">
                <a:moveTo>
                  <a:pt x="42923" y="14281"/>
                </a:moveTo>
                <a:lnTo>
                  <a:pt x="42923" y="12323"/>
                </a:lnTo>
                <a:cubicBezTo>
                  <a:pt x="42923" y="11496"/>
                  <a:pt x="43253" y="10800"/>
                  <a:pt x="43854" y="10800"/>
                </a:cubicBezTo>
                <a:cubicBezTo>
                  <a:pt x="44985" y="10800"/>
                  <a:pt x="45882" y="9434"/>
                  <a:pt x="45882" y="7849"/>
                </a:cubicBezTo>
                <a:cubicBezTo>
                  <a:pt x="45882" y="5534"/>
                  <a:pt x="44028" y="3794"/>
                  <a:pt x="41817" y="3794"/>
                </a:cubicBezTo>
                <a:cubicBezTo>
                  <a:pt x="39607" y="3794"/>
                  <a:pt x="37935" y="5534"/>
                  <a:pt x="37935" y="7849"/>
                </a:cubicBezTo>
                <a:lnTo>
                  <a:pt x="39789" y="7849"/>
                </a:lnTo>
                <a:cubicBezTo>
                  <a:pt x="39789" y="6709"/>
                  <a:pt x="40712" y="5821"/>
                  <a:pt x="41817" y="5821"/>
                </a:cubicBezTo>
                <a:cubicBezTo>
                  <a:pt x="42923" y="5821"/>
                  <a:pt x="43854" y="6709"/>
                  <a:pt x="43854" y="7849"/>
                </a:cubicBezTo>
                <a:cubicBezTo>
                  <a:pt x="43854" y="8589"/>
                  <a:pt x="43384" y="9320"/>
                  <a:pt x="42923" y="9320"/>
                </a:cubicBezTo>
                <a:cubicBezTo>
                  <a:pt x="41817" y="9320"/>
                  <a:pt x="40712" y="10800"/>
                  <a:pt x="40712" y="12323"/>
                </a:cubicBezTo>
                <a:lnTo>
                  <a:pt x="40712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character said, “You my friend and I think you’re sensational.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4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828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Daily Double Graphic and Sound Effect!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32004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DO NOT DELETE THIS SLIDE!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Deleting it may cause the game links to work improperly.  This slide is hidden during the game, and WILL not appea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slide view mode, copy the above (red) graphic (click once to select; right click the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border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and choose “copy”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te the answer slide which you want to be the daily dou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ight-click and choose “paste”.  If necessary, reposition the graphic so that it does not cover the answer tex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029"/>
          <p:cNvSpPr/>
          <p:nvPr/>
        </p:nvSpPr>
        <p:spPr>
          <a:xfrm>
            <a:off x="1523880" y="609480"/>
            <a:ext cx="6324840" cy="10083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Daily Double!!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character described Wilbur as a, “fine specimen of a pig—it’s no bigger than a white rat.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3352680" y="342900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character defined frolic as, “to have fun…to run and skip and make merry.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23880" y="609480"/>
            <a:ext cx="6324840" cy="10083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Daily Double!!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ern named the pig _________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. Pigg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. Uncl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. Wilbu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. Charlott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276720" y="4114800"/>
            <a:ext cx="2361960" cy="609480"/>
          </a:xfrm>
          <a:custGeom>
            <a:avLst/>
            <a:gdLst>
              <a:gd name="textAreaLeft" fmla="*/ 39240 w 2361960"/>
              <a:gd name="textAreaRight" fmla="*/ 2322720 w 236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71" h="21600">
                <a:moveTo>
                  <a:pt x="0" y="0"/>
                </a:moveTo>
                <a:lnTo>
                  <a:pt x="83671" y="0"/>
                </a:lnTo>
                <a:lnTo>
                  <a:pt x="83671" y="21600"/>
                </a:lnTo>
                <a:lnTo>
                  <a:pt x="0" y="21600"/>
                </a:lnTo>
                <a:close/>
              </a:path>
              <a:path fill="lightenLess" w="83671" h="21600">
                <a:moveTo>
                  <a:pt x="0" y="0"/>
                </a:moveTo>
                <a:lnTo>
                  <a:pt x="83671" y="0"/>
                </a:lnTo>
                <a:lnTo>
                  <a:pt x="82271" y="1400"/>
                </a:lnTo>
                <a:lnTo>
                  <a:pt x="1400" y="1400"/>
                </a:lnTo>
                <a:close/>
              </a:path>
              <a:path fill="darken" w="83671" h="21600">
                <a:moveTo>
                  <a:pt x="83671" y="0"/>
                </a:moveTo>
                <a:lnTo>
                  <a:pt x="83671" y="21600"/>
                </a:lnTo>
                <a:lnTo>
                  <a:pt x="82271" y="20200"/>
                </a:lnTo>
                <a:lnTo>
                  <a:pt x="82271" y="1400"/>
                </a:lnTo>
                <a:close/>
              </a:path>
              <a:path fill="darkenLess" w="83671" h="21600">
                <a:moveTo>
                  <a:pt x="83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71" y="20200"/>
                </a:lnTo>
                <a:close/>
              </a:path>
              <a:path fill="lighten" w="83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71" h="21600">
                <a:moveTo>
                  <a:pt x="418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71" h="21600">
                <a:moveTo>
                  <a:pt x="42941" y="14281"/>
                </a:moveTo>
                <a:lnTo>
                  <a:pt x="42941" y="12323"/>
                </a:lnTo>
                <a:cubicBezTo>
                  <a:pt x="42941" y="11496"/>
                  <a:pt x="43272" y="10800"/>
                  <a:pt x="43872" y="10800"/>
                </a:cubicBezTo>
                <a:cubicBezTo>
                  <a:pt x="45004" y="10800"/>
                  <a:pt x="45900" y="9434"/>
                  <a:pt x="45900" y="7849"/>
                </a:cubicBezTo>
                <a:cubicBezTo>
                  <a:pt x="45900" y="5534"/>
                  <a:pt x="44046" y="3794"/>
                  <a:pt x="41836" y="3794"/>
                </a:cubicBezTo>
                <a:cubicBezTo>
                  <a:pt x="39625" y="3794"/>
                  <a:pt x="37954" y="5534"/>
                  <a:pt x="37954" y="7849"/>
                </a:cubicBezTo>
                <a:lnTo>
                  <a:pt x="39808" y="7849"/>
                </a:lnTo>
                <a:cubicBezTo>
                  <a:pt x="39808" y="6709"/>
                  <a:pt x="40730" y="5821"/>
                  <a:pt x="41836" y="5821"/>
                </a:cubicBezTo>
                <a:cubicBezTo>
                  <a:pt x="42941" y="5821"/>
                  <a:pt x="43872" y="6709"/>
                  <a:pt x="43872" y="7849"/>
                </a:cubicBezTo>
                <a:cubicBezTo>
                  <a:pt x="43872" y="8589"/>
                  <a:pt x="43402" y="9320"/>
                  <a:pt x="42941" y="9320"/>
                </a:cubicBezTo>
                <a:cubicBezTo>
                  <a:pt x="41836" y="9320"/>
                  <a:pt x="40730" y="10800"/>
                  <a:pt x="40730" y="12323"/>
                </a:cubicBezTo>
                <a:lnTo>
                  <a:pt x="40730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y did Charlotte put her “victims” to sleep before she ate them?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. to perform operations on them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. she didn’t like them talking i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r web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. she didn’t want them to feel any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in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. she didn’t put them to slee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124080" y="5410080"/>
            <a:ext cx="2362320" cy="60984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3635" h="21600">
                <a:moveTo>
                  <a:pt x="0" y="0"/>
                </a:moveTo>
                <a:lnTo>
                  <a:pt x="83635" y="0"/>
                </a:lnTo>
                <a:lnTo>
                  <a:pt x="83635" y="21600"/>
                </a:lnTo>
                <a:lnTo>
                  <a:pt x="0" y="21600"/>
                </a:lnTo>
                <a:close/>
              </a:path>
              <a:path fill="lightenLess" w="83635" h="21600">
                <a:moveTo>
                  <a:pt x="0" y="0"/>
                </a:moveTo>
                <a:lnTo>
                  <a:pt x="83635" y="0"/>
                </a:lnTo>
                <a:lnTo>
                  <a:pt x="82235" y="1400"/>
                </a:lnTo>
                <a:lnTo>
                  <a:pt x="1400" y="1400"/>
                </a:lnTo>
                <a:close/>
              </a:path>
              <a:path fill="darken" w="83635" h="21600">
                <a:moveTo>
                  <a:pt x="83635" y="0"/>
                </a:moveTo>
                <a:lnTo>
                  <a:pt x="83635" y="21600"/>
                </a:lnTo>
                <a:lnTo>
                  <a:pt x="82235" y="20200"/>
                </a:lnTo>
                <a:lnTo>
                  <a:pt x="82235" y="1400"/>
                </a:lnTo>
                <a:close/>
              </a:path>
              <a:path fill="darkenLess" w="83635" h="21600">
                <a:moveTo>
                  <a:pt x="8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35" y="20200"/>
                </a:lnTo>
                <a:close/>
              </a:path>
              <a:path fill="lighten" w="8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35" h="21600">
                <a:moveTo>
                  <a:pt x="4181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35" h="21600">
                <a:moveTo>
                  <a:pt x="42923" y="14281"/>
                </a:moveTo>
                <a:lnTo>
                  <a:pt x="42923" y="12323"/>
                </a:lnTo>
                <a:cubicBezTo>
                  <a:pt x="42923" y="11496"/>
                  <a:pt x="43253" y="10800"/>
                  <a:pt x="43854" y="10800"/>
                </a:cubicBezTo>
                <a:cubicBezTo>
                  <a:pt x="44985" y="10800"/>
                  <a:pt x="45882" y="9434"/>
                  <a:pt x="45882" y="7849"/>
                </a:cubicBezTo>
                <a:cubicBezTo>
                  <a:pt x="45882" y="5534"/>
                  <a:pt x="44028" y="3794"/>
                  <a:pt x="41817" y="3794"/>
                </a:cubicBezTo>
                <a:cubicBezTo>
                  <a:pt x="39607" y="3794"/>
                  <a:pt x="37935" y="5534"/>
                  <a:pt x="37935" y="7849"/>
                </a:cubicBezTo>
                <a:lnTo>
                  <a:pt x="39789" y="7849"/>
                </a:lnTo>
                <a:cubicBezTo>
                  <a:pt x="39789" y="6709"/>
                  <a:pt x="40712" y="5821"/>
                  <a:pt x="41817" y="5821"/>
                </a:cubicBezTo>
                <a:cubicBezTo>
                  <a:pt x="42923" y="5821"/>
                  <a:pt x="43854" y="6709"/>
                  <a:pt x="43854" y="7849"/>
                </a:cubicBezTo>
                <a:cubicBezTo>
                  <a:pt x="43854" y="8589"/>
                  <a:pt x="43384" y="9320"/>
                  <a:pt x="42923" y="9320"/>
                </a:cubicBezTo>
                <a:cubicBezTo>
                  <a:pt x="41817" y="9320"/>
                  <a:pt x="40712" y="10800"/>
                  <a:pt x="40712" y="12323"/>
                </a:cubicBezTo>
                <a:lnTo>
                  <a:pt x="40712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o did Wilbur live with after Fern?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. The Arable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. The Zuckerman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. The Templeton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. The Hogget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3124080" y="525780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is character was the first to save Wilbur’s lif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AutoShape 1039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oper Black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o is not Wilbur’s friend?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. Fer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. Templet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. Charlotte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. Aver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200400" y="434340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o stayed with Wilbur overnight at the fair?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. Fern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. Mr. Zuckerman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. Mr. Arabl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. Charlott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048120" y="4724280"/>
            <a:ext cx="2361960" cy="609840"/>
          </a:xfrm>
          <a:custGeom>
            <a:avLst/>
            <a:gdLst>
              <a:gd name="textAreaLeft" fmla="*/ 39240 w 2361960"/>
              <a:gd name="textAreaRight" fmla="*/ 2322720 w 2361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3622" h="21600">
                <a:moveTo>
                  <a:pt x="0" y="0"/>
                </a:moveTo>
                <a:lnTo>
                  <a:pt x="83622" y="0"/>
                </a:lnTo>
                <a:lnTo>
                  <a:pt x="83622" y="21600"/>
                </a:lnTo>
                <a:lnTo>
                  <a:pt x="0" y="21600"/>
                </a:lnTo>
                <a:close/>
              </a:path>
              <a:path fill="lightenLess" w="83622" h="21600">
                <a:moveTo>
                  <a:pt x="0" y="0"/>
                </a:moveTo>
                <a:lnTo>
                  <a:pt x="83622" y="0"/>
                </a:lnTo>
                <a:lnTo>
                  <a:pt x="82222" y="1400"/>
                </a:lnTo>
                <a:lnTo>
                  <a:pt x="1400" y="1400"/>
                </a:lnTo>
                <a:close/>
              </a:path>
              <a:path fill="darken" w="83622" h="21600">
                <a:moveTo>
                  <a:pt x="83622" y="0"/>
                </a:moveTo>
                <a:lnTo>
                  <a:pt x="83622" y="21600"/>
                </a:lnTo>
                <a:lnTo>
                  <a:pt x="82222" y="20200"/>
                </a:lnTo>
                <a:lnTo>
                  <a:pt x="82222" y="1400"/>
                </a:lnTo>
                <a:close/>
              </a:path>
              <a:path fill="darkenLess" w="83622" h="21600">
                <a:moveTo>
                  <a:pt x="83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22" y="20200"/>
                </a:lnTo>
                <a:close/>
              </a:path>
              <a:path fill="lighten" w="83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22" h="21600">
                <a:moveTo>
                  <a:pt x="41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22" h="21600">
                <a:moveTo>
                  <a:pt x="42916" y="14281"/>
                </a:moveTo>
                <a:lnTo>
                  <a:pt x="42916" y="12323"/>
                </a:lnTo>
                <a:cubicBezTo>
                  <a:pt x="42916" y="11496"/>
                  <a:pt x="43247" y="10800"/>
                  <a:pt x="43848" y="10800"/>
                </a:cubicBezTo>
                <a:cubicBezTo>
                  <a:pt x="44979" y="10800"/>
                  <a:pt x="45876" y="9434"/>
                  <a:pt x="45876" y="7849"/>
                </a:cubicBezTo>
                <a:cubicBezTo>
                  <a:pt x="45876" y="5534"/>
                  <a:pt x="44022" y="3794"/>
                  <a:pt x="41811" y="3794"/>
                </a:cubicBezTo>
                <a:cubicBezTo>
                  <a:pt x="39600" y="3794"/>
                  <a:pt x="37929" y="5534"/>
                  <a:pt x="37929" y="7849"/>
                </a:cubicBezTo>
                <a:lnTo>
                  <a:pt x="39783" y="7849"/>
                </a:lnTo>
                <a:cubicBezTo>
                  <a:pt x="39783" y="6709"/>
                  <a:pt x="40706" y="5821"/>
                  <a:pt x="41811" y="5821"/>
                </a:cubicBezTo>
                <a:cubicBezTo>
                  <a:pt x="42916" y="5821"/>
                  <a:pt x="43848" y="6709"/>
                  <a:pt x="43848" y="7849"/>
                </a:cubicBezTo>
                <a:cubicBezTo>
                  <a:pt x="43848" y="8589"/>
                  <a:pt x="43378" y="9320"/>
                  <a:pt x="42916" y="9320"/>
                </a:cubicBezTo>
                <a:cubicBezTo>
                  <a:pt x="41811" y="9320"/>
                  <a:pt x="40706" y="10800"/>
                  <a:pt x="40706" y="12323"/>
                </a:cubicBezTo>
                <a:lnTo>
                  <a:pt x="40706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ich event happened first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Templeton found words for Charlott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. Charlotte d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3124080" y="3581280"/>
            <a:ext cx="2362320" cy="60984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3635" h="21600">
                <a:moveTo>
                  <a:pt x="0" y="0"/>
                </a:moveTo>
                <a:lnTo>
                  <a:pt x="83635" y="0"/>
                </a:lnTo>
                <a:lnTo>
                  <a:pt x="83635" y="21600"/>
                </a:lnTo>
                <a:lnTo>
                  <a:pt x="0" y="21600"/>
                </a:lnTo>
                <a:close/>
              </a:path>
              <a:path fill="lightenLess" w="83635" h="21600">
                <a:moveTo>
                  <a:pt x="0" y="0"/>
                </a:moveTo>
                <a:lnTo>
                  <a:pt x="83635" y="0"/>
                </a:lnTo>
                <a:lnTo>
                  <a:pt x="82235" y="1400"/>
                </a:lnTo>
                <a:lnTo>
                  <a:pt x="1400" y="1400"/>
                </a:lnTo>
                <a:close/>
              </a:path>
              <a:path fill="darken" w="83635" h="21600">
                <a:moveTo>
                  <a:pt x="83635" y="0"/>
                </a:moveTo>
                <a:lnTo>
                  <a:pt x="83635" y="21600"/>
                </a:lnTo>
                <a:lnTo>
                  <a:pt x="82235" y="20200"/>
                </a:lnTo>
                <a:lnTo>
                  <a:pt x="82235" y="1400"/>
                </a:lnTo>
                <a:close/>
              </a:path>
              <a:path fill="darkenLess" w="83635" h="21600">
                <a:moveTo>
                  <a:pt x="8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35" y="20200"/>
                </a:lnTo>
                <a:close/>
              </a:path>
              <a:path fill="lighten" w="8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35" h="21600">
                <a:moveTo>
                  <a:pt x="4181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35" h="21600">
                <a:moveTo>
                  <a:pt x="42923" y="14281"/>
                </a:moveTo>
                <a:lnTo>
                  <a:pt x="42923" y="12323"/>
                </a:lnTo>
                <a:cubicBezTo>
                  <a:pt x="42923" y="11496"/>
                  <a:pt x="43253" y="10800"/>
                  <a:pt x="43854" y="10800"/>
                </a:cubicBezTo>
                <a:cubicBezTo>
                  <a:pt x="44985" y="10800"/>
                  <a:pt x="45882" y="9434"/>
                  <a:pt x="45882" y="7849"/>
                </a:cubicBezTo>
                <a:cubicBezTo>
                  <a:pt x="45882" y="5534"/>
                  <a:pt x="44028" y="3794"/>
                  <a:pt x="41817" y="3794"/>
                </a:cubicBezTo>
                <a:cubicBezTo>
                  <a:pt x="39607" y="3794"/>
                  <a:pt x="37935" y="5534"/>
                  <a:pt x="37935" y="7849"/>
                </a:cubicBezTo>
                <a:lnTo>
                  <a:pt x="39789" y="7849"/>
                </a:lnTo>
                <a:cubicBezTo>
                  <a:pt x="39789" y="6709"/>
                  <a:pt x="40712" y="5821"/>
                  <a:pt x="41817" y="5821"/>
                </a:cubicBezTo>
                <a:cubicBezTo>
                  <a:pt x="42923" y="5821"/>
                  <a:pt x="43854" y="6709"/>
                  <a:pt x="43854" y="7849"/>
                </a:cubicBezTo>
                <a:cubicBezTo>
                  <a:pt x="43854" y="8589"/>
                  <a:pt x="43384" y="9320"/>
                  <a:pt x="42923" y="9320"/>
                </a:cubicBezTo>
                <a:cubicBezTo>
                  <a:pt x="41817" y="9320"/>
                  <a:pt x="40712" y="10800"/>
                  <a:pt x="40712" y="12323"/>
                </a:cubicBezTo>
                <a:lnTo>
                  <a:pt x="40712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ich event happened first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The spiders leave on web balloon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. Wilbur cries because he is lonel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3200400" y="44197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ich event happened first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Charlotte write humble in her web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. Wilbur wins the priz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. Charlotte makes her egg sa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048120" y="4419720"/>
            <a:ext cx="2361960" cy="609480"/>
          </a:xfrm>
          <a:custGeom>
            <a:avLst/>
            <a:gdLst>
              <a:gd name="textAreaLeft" fmla="*/ 39240 w 2361960"/>
              <a:gd name="textAreaRight" fmla="*/ 2322720 w 2361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71" h="21600">
                <a:moveTo>
                  <a:pt x="0" y="0"/>
                </a:moveTo>
                <a:lnTo>
                  <a:pt x="83671" y="0"/>
                </a:lnTo>
                <a:lnTo>
                  <a:pt x="83671" y="21600"/>
                </a:lnTo>
                <a:lnTo>
                  <a:pt x="0" y="21600"/>
                </a:lnTo>
                <a:close/>
              </a:path>
              <a:path fill="lightenLess" w="83671" h="21600">
                <a:moveTo>
                  <a:pt x="0" y="0"/>
                </a:moveTo>
                <a:lnTo>
                  <a:pt x="83671" y="0"/>
                </a:lnTo>
                <a:lnTo>
                  <a:pt x="82271" y="1400"/>
                </a:lnTo>
                <a:lnTo>
                  <a:pt x="1400" y="1400"/>
                </a:lnTo>
                <a:close/>
              </a:path>
              <a:path fill="darken" w="83671" h="21600">
                <a:moveTo>
                  <a:pt x="83671" y="0"/>
                </a:moveTo>
                <a:lnTo>
                  <a:pt x="83671" y="21600"/>
                </a:lnTo>
                <a:lnTo>
                  <a:pt x="82271" y="20200"/>
                </a:lnTo>
                <a:lnTo>
                  <a:pt x="82271" y="1400"/>
                </a:lnTo>
                <a:close/>
              </a:path>
              <a:path fill="darkenLess" w="83671" h="21600">
                <a:moveTo>
                  <a:pt x="83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71" y="20200"/>
                </a:lnTo>
                <a:close/>
              </a:path>
              <a:path fill="lighten" w="83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71" h="21600">
                <a:moveTo>
                  <a:pt x="418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71" h="21600">
                <a:moveTo>
                  <a:pt x="42941" y="14281"/>
                </a:moveTo>
                <a:lnTo>
                  <a:pt x="42941" y="12323"/>
                </a:lnTo>
                <a:cubicBezTo>
                  <a:pt x="42941" y="11496"/>
                  <a:pt x="43272" y="10800"/>
                  <a:pt x="43872" y="10800"/>
                </a:cubicBezTo>
                <a:cubicBezTo>
                  <a:pt x="45004" y="10800"/>
                  <a:pt x="45900" y="9434"/>
                  <a:pt x="45900" y="7849"/>
                </a:cubicBezTo>
                <a:cubicBezTo>
                  <a:pt x="45900" y="5534"/>
                  <a:pt x="44046" y="3794"/>
                  <a:pt x="41836" y="3794"/>
                </a:cubicBezTo>
                <a:cubicBezTo>
                  <a:pt x="39625" y="3794"/>
                  <a:pt x="37954" y="5534"/>
                  <a:pt x="37954" y="7849"/>
                </a:cubicBezTo>
                <a:lnTo>
                  <a:pt x="39808" y="7849"/>
                </a:lnTo>
                <a:cubicBezTo>
                  <a:pt x="39808" y="6709"/>
                  <a:pt x="40730" y="5821"/>
                  <a:pt x="41836" y="5821"/>
                </a:cubicBezTo>
                <a:cubicBezTo>
                  <a:pt x="42941" y="5821"/>
                  <a:pt x="43872" y="6709"/>
                  <a:pt x="43872" y="7849"/>
                </a:cubicBezTo>
                <a:cubicBezTo>
                  <a:pt x="43872" y="8589"/>
                  <a:pt x="43402" y="9320"/>
                  <a:pt x="42941" y="9320"/>
                </a:cubicBezTo>
                <a:cubicBezTo>
                  <a:pt x="41836" y="9320"/>
                  <a:pt x="40730" y="10800"/>
                  <a:pt x="40730" y="12323"/>
                </a:cubicBezTo>
                <a:lnTo>
                  <a:pt x="40730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o is Fern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AutoShape 4">
            <a:hlinkClick r:id="rId1" action="ppaction://hlinksldjump"/>
          </p:cNvPr>
          <p:cNvSpPr/>
          <p:nvPr/>
        </p:nvSpPr>
        <p:spPr>
          <a:xfrm>
            <a:off x="6629400" y="5486400"/>
            <a:ext cx="2133720" cy="838080"/>
          </a:xfrm>
          <a:custGeom>
            <a:avLst/>
            <a:gdLst>
              <a:gd name="textAreaLeft" fmla="*/ 54000 w 2133720"/>
              <a:gd name="textAreaRight" fmla="*/ 2079720 w 2133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4978" h="21600">
                <a:moveTo>
                  <a:pt x="0" y="0"/>
                </a:moveTo>
                <a:lnTo>
                  <a:pt x="54978" y="0"/>
                </a:lnTo>
                <a:lnTo>
                  <a:pt x="54978" y="21600"/>
                </a:lnTo>
                <a:lnTo>
                  <a:pt x="0" y="21600"/>
                </a:lnTo>
                <a:close/>
              </a:path>
              <a:path fill="lightenLess" w="54978" h="21600">
                <a:moveTo>
                  <a:pt x="0" y="0"/>
                </a:moveTo>
                <a:lnTo>
                  <a:pt x="54978" y="0"/>
                </a:lnTo>
                <a:lnTo>
                  <a:pt x="53578" y="1400"/>
                </a:lnTo>
                <a:lnTo>
                  <a:pt x="1400" y="1400"/>
                </a:lnTo>
                <a:close/>
              </a:path>
              <a:path fill="darken" w="54978" h="21600">
                <a:moveTo>
                  <a:pt x="54978" y="0"/>
                </a:moveTo>
                <a:lnTo>
                  <a:pt x="54978" y="21600"/>
                </a:lnTo>
                <a:lnTo>
                  <a:pt x="53578" y="20200"/>
                </a:lnTo>
                <a:lnTo>
                  <a:pt x="53578" y="1400"/>
                </a:lnTo>
                <a:close/>
              </a:path>
              <a:path fill="darkenLess" w="54978" h="21600">
                <a:moveTo>
                  <a:pt x="54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78" y="20200"/>
                </a:lnTo>
                <a:close/>
              </a:path>
              <a:path fill="lighten" w="54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78" h="21600">
                <a:moveTo>
                  <a:pt x="20483" y="10800"/>
                </a:moveTo>
                <a:lnTo>
                  <a:pt x="34496" y="3794"/>
                </a:lnTo>
                <a:lnTo>
                  <a:pt x="34496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ich event happened first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The goslings hatch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. Avery tries to kill Charlott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. Wilbur escapes from his pe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3200400" y="44197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ich event happened first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Charlotte befriends Wilbu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. Fern feeds Wilbur a bottl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. Templeton gives Wilbur some string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. The old sheep tells Wilbur about the conspiracy to eat him for Christma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85800" y="2743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200400" y="548640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word means “not fair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word means “can be used for many things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word means “to run about in a happy and merry way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his word means “noisy confusion”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is word means “tiring or boring because it always stays the same”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AutoShape 4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3200400" y="342900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Final Jeopardy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It’s time for Final Jeopard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Each team must decide what amount the team wants to wager on this final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oudy Old Style"/>
              </a:rPr>
              <a:t>Remember: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 If you are wrong the team will </a:t>
            </a:r>
            <a:r>
              <a:rPr b="0" i="1" lang="en-US" sz="3200" spc="-1" strike="noStrike">
                <a:solidFill>
                  <a:srgbClr val="ffffff"/>
                </a:solidFill>
                <a:latin typeface="Goudy Old Style"/>
              </a:rPr>
              <a:t>lose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 the amount of points wag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is character convinced Wilbur to escape from his pe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oper Black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Final Jeopardy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Mr. Zuckerman’s first na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oper Black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o is the goose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AutoShape 4">
            <a:hlinkClick r:id="rId1" action="ppaction://hlinksldjump"/>
          </p:cNvPr>
          <p:cNvSpPr/>
          <p:nvPr/>
        </p:nvSpPr>
        <p:spPr>
          <a:xfrm>
            <a:off x="6781680" y="5562720"/>
            <a:ext cx="2133720" cy="838080"/>
          </a:xfrm>
          <a:custGeom>
            <a:avLst/>
            <a:gdLst>
              <a:gd name="textAreaLeft" fmla="*/ 54000 w 2133720"/>
              <a:gd name="textAreaRight" fmla="*/ 2079720 w 2133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4978" h="21600">
                <a:moveTo>
                  <a:pt x="0" y="0"/>
                </a:moveTo>
                <a:lnTo>
                  <a:pt x="54978" y="0"/>
                </a:lnTo>
                <a:lnTo>
                  <a:pt x="54978" y="21600"/>
                </a:lnTo>
                <a:lnTo>
                  <a:pt x="0" y="21600"/>
                </a:lnTo>
                <a:close/>
              </a:path>
              <a:path fill="lightenLess" w="54978" h="21600">
                <a:moveTo>
                  <a:pt x="0" y="0"/>
                </a:moveTo>
                <a:lnTo>
                  <a:pt x="54978" y="0"/>
                </a:lnTo>
                <a:lnTo>
                  <a:pt x="53578" y="1400"/>
                </a:lnTo>
                <a:lnTo>
                  <a:pt x="1400" y="1400"/>
                </a:lnTo>
                <a:close/>
              </a:path>
              <a:path fill="darken" w="54978" h="21600">
                <a:moveTo>
                  <a:pt x="54978" y="0"/>
                </a:moveTo>
                <a:lnTo>
                  <a:pt x="54978" y="21600"/>
                </a:lnTo>
                <a:lnTo>
                  <a:pt x="53578" y="20200"/>
                </a:lnTo>
                <a:lnTo>
                  <a:pt x="53578" y="1400"/>
                </a:lnTo>
                <a:close/>
              </a:path>
              <a:path fill="darkenLess" w="54978" h="21600">
                <a:moveTo>
                  <a:pt x="54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78" y="20200"/>
                </a:lnTo>
                <a:close/>
              </a:path>
              <a:path fill="lighten" w="54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78" h="21600">
                <a:moveTo>
                  <a:pt x="20483" y="10800"/>
                </a:moveTo>
                <a:lnTo>
                  <a:pt x="34496" y="3794"/>
                </a:lnTo>
                <a:lnTo>
                  <a:pt x="34496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is character told Wilbur there was a conspiracy to eat him at Christmastim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3200400" y="3048120"/>
            <a:ext cx="2362320" cy="609480"/>
          </a:xfrm>
          <a:custGeom>
            <a:avLst/>
            <a:gdLst>
              <a:gd name="textAreaLeft" fmla="*/ 39240 w 2362320"/>
              <a:gd name="textAreaRight" fmla="*/ 2323080 w 2362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3684" h="21600">
                <a:moveTo>
                  <a:pt x="0" y="0"/>
                </a:moveTo>
                <a:lnTo>
                  <a:pt x="83684" y="0"/>
                </a:lnTo>
                <a:lnTo>
                  <a:pt x="83684" y="21600"/>
                </a:lnTo>
                <a:lnTo>
                  <a:pt x="0" y="21600"/>
                </a:lnTo>
                <a:close/>
              </a:path>
              <a:path fill="lightenLess" w="83684" h="21600">
                <a:moveTo>
                  <a:pt x="0" y="0"/>
                </a:moveTo>
                <a:lnTo>
                  <a:pt x="83684" y="0"/>
                </a:lnTo>
                <a:lnTo>
                  <a:pt x="82284" y="1400"/>
                </a:lnTo>
                <a:lnTo>
                  <a:pt x="1400" y="1400"/>
                </a:lnTo>
                <a:close/>
              </a:path>
              <a:path fill="darken" w="83684" h="21600">
                <a:moveTo>
                  <a:pt x="83684" y="0"/>
                </a:moveTo>
                <a:lnTo>
                  <a:pt x="83684" y="21600"/>
                </a:lnTo>
                <a:lnTo>
                  <a:pt x="82284" y="20200"/>
                </a:lnTo>
                <a:lnTo>
                  <a:pt x="82284" y="1400"/>
                </a:lnTo>
                <a:close/>
              </a:path>
              <a:path fill="darkenLess" w="83684" h="21600">
                <a:moveTo>
                  <a:pt x="83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84" y="20200"/>
                </a:lnTo>
                <a:close/>
              </a:path>
              <a:path fill="lighten" w="83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684" h="21600">
                <a:moveTo>
                  <a:pt x="4184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3684" h="21600">
                <a:moveTo>
                  <a:pt x="42947" y="14281"/>
                </a:moveTo>
                <a:lnTo>
                  <a:pt x="42947" y="12323"/>
                </a:lnTo>
                <a:cubicBezTo>
                  <a:pt x="42947" y="11496"/>
                  <a:pt x="43278" y="10800"/>
                  <a:pt x="43879" y="10800"/>
                </a:cubicBezTo>
                <a:cubicBezTo>
                  <a:pt x="45010" y="10800"/>
                  <a:pt x="45907" y="9434"/>
                  <a:pt x="45907" y="7849"/>
                </a:cubicBezTo>
                <a:cubicBezTo>
                  <a:pt x="45907" y="5534"/>
                  <a:pt x="44053" y="3794"/>
                  <a:pt x="41842" y="3794"/>
                </a:cubicBezTo>
                <a:cubicBezTo>
                  <a:pt x="39631" y="3794"/>
                  <a:pt x="37960" y="5534"/>
                  <a:pt x="37960" y="7849"/>
                </a:cubicBezTo>
                <a:lnTo>
                  <a:pt x="39814" y="7849"/>
                </a:lnTo>
                <a:cubicBezTo>
                  <a:pt x="39814" y="6709"/>
                  <a:pt x="40737" y="5821"/>
                  <a:pt x="41842" y="5821"/>
                </a:cubicBezTo>
                <a:cubicBezTo>
                  <a:pt x="42947" y="5821"/>
                  <a:pt x="43879" y="6709"/>
                  <a:pt x="43879" y="7849"/>
                </a:cubicBezTo>
                <a:cubicBezTo>
                  <a:pt x="43879" y="8589"/>
                  <a:pt x="43409" y="9320"/>
                  <a:pt x="42947" y="9320"/>
                </a:cubicBezTo>
                <a:cubicBezTo>
                  <a:pt x="41842" y="9320"/>
                  <a:pt x="40737" y="10800"/>
                  <a:pt x="40737" y="12323"/>
                </a:cubicBezTo>
                <a:lnTo>
                  <a:pt x="40737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oper Black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o is the old sheep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AutoShape 4">
            <a:hlinkClick r:id="rId1" action="ppaction://hlinksldjump"/>
          </p:cNvPr>
          <p:cNvSpPr/>
          <p:nvPr/>
        </p:nvSpPr>
        <p:spPr>
          <a:xfrm>
            <a:off x="6781680" y="5638680"/>
            <a:ext cx="2133720" cy="838440"/>
          </a:xfrm>
          <a:custGeom>
            <a:avLst/>
            <a:gdLst>
              <a:gd name="textAreaLeft" fmla="*/ 54360 w 2133720"/>
              <a:gd name="textAreaRight" fmla="*/ 2079360 w 2133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4955" h="21600">
                <a:moveTo>
                  <a:pt x="0" y="0"/>
                </a:moveTo>
                <a:lnTo>
                  <a:pt x="54955" y="0"/>
                </a:lnTo>
                <a:lnTo>
                  <a:pt x="54955" y="21600"/>
                </a:lnTo>
                <a:lnTo>
                  <a:pt x="0" y="21600"/>
                </a:lnTo>
                <a:close/>
              </a:path>
              <a:path fill="lightenLess" w="54955" h="21600">
                <a:moveTo>
                  <a:pt x="0" y="0"/>
                </a:moveTo>
                <a:lnTo>
                  <a:pt x="54955" y="0"/>
                </a:lnTo>
                <a:lnTo>
                  <a:pt x="53555" y="1400"/>
                </a:lnTo>
                <a:lnTo>
                  <a:pt x="1400" y="1400"/>
                </a:lnTo>
                <a:close/>
              </a:path>
              <a:path fill="darken" w="54955" h="21600">
                <a:moveTo>
                  <a:pt x="54955" y="0"/>
                </a:moveTo>
                <a:lnTo>
                  <a:pt x="54955" y="21600"/>
                </a:lnTo>
                <a:lnTo>
                  <a:pt x="53555" y="20200"/>
                </a:lnTo>
                <a:lnTo>
                  <a:pt x="53555" y="1400"/>
                </a:lnTo>
                <a:close/>
              </a:path>
              <a:path fill="darkenLess" w="54955" h="21600">
                <a:moveTo>
                  <a:pt x="5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55" y="20200"/>
                </a:lnTo>
                <a:close/>
              </a:path>
              <a:path fill="lighten" w="5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55" h="21600">
                <a:moveTo>
                  <a:pt x="20471" y="10800"/>
                </a:moveTo>
                <a:lnTo>
                  <a:pt x="34484" y="3794"/>
                </a:lnTo>
                <a:lnTo>
                  <a:pt x="34484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1:19:55Z</dcterms:created>
  <dc:creator>Beth</dc:creator>
  <dc:description/>
  <dc:language>en-US</dc:language>
  <cp:lastModifiedBy>Gamel, Rebecca</cp:lastModifiedBy>
  <dcterms:modified xsi:type="dcterms:W3CDTF">2016-03-22T11:43:38Z</dcterms:modified>
  <cp:revision>15</cp:revision>
  <dc:subject/>
  <dc:title>JEOPARDY!</dc:title>
</cp:coreProperties>
</file>